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2B5-48AB-4981-9426-D45929B9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1704-5FD5-4A53-889E-C06039C1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BF5-299D-4FF3-9A59-BF79422C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DBC-1C46-4095-AC0A-25B782F6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96868-7C6E-4266-B3D8-3941CD4A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510F3-1C41-46DA-AECC-98C5DCB2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8C80C-E266-4722-A702-34ECE6D1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345C3-6A20-41B3-9D5F-B9FDE5C8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167BA-A700-4611-BBEB-9A37D4D5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D906F-802F-49DC-849A-9D070275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53CA5-8845-453A-B9EC-CA2B5FDF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EA3-1532-4EE6-B0B2-E340E494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80665-11DC-44A2-93F6-97A63866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F4C12-8D05-4C27-863B-9E273C31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398FA-B904-4773-A0A4-0361AC0B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BFF96-BF3E-4029-809A-6413107D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AF5AC-4876-49BC-85B5-B1E6D8E4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1E7-8CA0-495A-82EB-A88D6B8F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D21-5AA2-44A2-A1DF-32E17BFC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3E8-315D-41F8-A1A6-1740E25D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A1D-5329-419D-BBD1-0E85AC29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E04-DE10-4734-97B2-7B4AF23B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07D-7205-4785-9F7E-797D2171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40D1-9AA3-4E06-A35A-4D7BC33A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1949-17BE-425A-8046-174C5F0CC6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D13C-043B-4A78-B011-55391B0997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79640" y="537372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у выполнила Михалева Л.П., учитель русского языка и литературы МОУ сош №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28040" y="4292640"/>
            <a:ext cx="64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работка фрагмента урока по литературе в 11 классе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7040" y="260280"/>
            <a:ext cx="70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ерноморский региональный центр Интернет-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55640" y="2421000"/>
            <a:ext cx="792000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орис Пастернак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410920" y="620280"/>
            <a:ext cx="6418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 стихотворных шедевров мировой лирики, автор поэмы «Девятьсот пятый год», «Лейтенант Шмидт», «Спекторский» и романа «Доктор Живаго» - Борис Пастернак всей своей судьбой доказал, ч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Пастернак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1649160" cy="2506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35280" y="3860640"/>
            <a:ext cx="69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Не потрясенья и перевор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Для новой жизни очищают пу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А откровенья, бури и щедр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Души воспламенённой чьей-нибудь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02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2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02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2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asternak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095640" cy="374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45964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2428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1197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551664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Во всем мне хочется дойти до самой сути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565360"/>
            <a:ext cx="65628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рис Леонидович Пастернак - один из величайших поэтов и писател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олетия, человек, чьи стихи и проза, вошедшие в «золотой фонд» мировой классики, не подлежат уже ни обсуждениям, ни комментари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Пастернак4" descr=""/>
          <p:cNvPicPr/>
          <p:nvPr/>
        </p:nvPicPr>
        <p:blipFill>
          <a:blip r:embed="rId1"/>
          <a:stretch/>
        </p:blipFill>
        <p:spPr>
          <a:xfrm>
            <a:off x="6948360" y="907920"/>
            <a:ext cx="1619280" cy="2419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4000" y="105264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узыка, живопись и философия - те стихии, которые сформировали его творческое мировоззр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ивопись и музыка сопутствовали ему с детства, его отец был известный художник, мать - талантливая пианист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Бетховен" descr=""/>
          <p:cNvPicPr/>
          <p:nvPr/>
        </p:nvPicPr>
        <p:blipFill>
          <a:blip r:embed="rId1"/>
          <a:stretch/>
        </p:blipFill>
        <p:spPr>
          <a:xfrm>
            <a:off x="6732720" y="1989000"/>
            <a:ext cx="165096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476244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спешные занятия музыкой и философией открывали перед ним двойную перспективу. Но Музыке и Философии он предпочёл Поэз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О, знал бы я, что так быва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Когда пускался на дебю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Что строчки с кровью убиваю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ахлынут горлом и убью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осенняя грусть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3529080" cy="2469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5194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 ошеломляющей избыточной метафоричности стихотворений 1910-1920-х годов (книги «Начальная пора», «Поверх барьеров», «Сестра моя - жизнь», «Темы и вариации») он приходит к не менее ошеломляющей и органичной свободе самовыражения в книгах «Второе рождение» и «На ранних поездах», достигнув затем в «Стихотворениях Юрия Живаго» того провидческого состояния, когда «язык, родина и вместилище красоты и смысла, сам начинает думать и говорить за человека»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j0145336" descr=""/>
          <p:cNvPicPr/>
          <p:nvPr/>
        </p:nvPicPr>
        <p:blipFill>
          <a:blip r:embed="rId1"/>
          <a:stretch/>
        </p:blipFill>
        <p:spPr>
          <a:xfrm>
            <a:off x="5940360" y="404640"/>
            <a:ext cx="2090880" cy="3240360"/>
          </a:xfrm>
          <a:prstGeom prst="rect">
            <a:avLst/>
          </a:prstGeom>
          <a:ln w="0">
            <a:noFill/>
          </a:ln>
        </p:spPr>
      </p:pic>
      <p:pic>
        <p:nvPicPr>
          <p:cNvPr id="101" name="Пастернак6" descr=""/>
          <p:cNvPicPr/>
          <p:nvPr/>
        </p:nvPicPr>
        <p:blipFill>
          <a:blip r:embed="rId2"/>
          <a:stretch/>
        </p:blipFill>
        <p:spPr>
          <a:xfrm>
            <a:off x="5940360" y="3860640"/>
            <a:ext cx="202248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95640" y="251676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Мне снилась осень в полусвете стёко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Друзья и ты в их шутовской гурьб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И, как с небес добывший крови соко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Спускалось сердце на руку к тебе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рисунок книги Пастернака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928520" cy="3265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4365720"/>
            <a:ext cx="82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 - читали? Перечитайте! Возможно, тогда стихи Пастернака зазвучат для вас мощнее и полнее, совсем по-новому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4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4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4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4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4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4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4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4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4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4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555120"/>
            <a:ext cx="5398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«Доктор Живаго» (1946-195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ман, который сам Пастернак считал своей главной книгой, в которой звучат «вечные» вопросы - о жизни и смерти, любви и ненависти, войне, революции. Глобальные проблемы анализируются на примере судьбы русского интеллигента - врача Юрия Живаго, его друзей и близких, ставших очевидцами и участниками исторических, переломных соб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692360" y="2349360"/>
            <a:ext cx="304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Доктор Живаго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2762280" cy="4356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Советском Союзе роман не мог быть издан (вышел в свет лишь в 1988 году). В 1957 году он был опубликован в Италии, вскоре появились издания на английском, немецком, французском, русском язык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1958 году Б. Пастернаку присудили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обелевскую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премию по литературе. В СССР развернулась компания травли, его исключили из Союза писателей, грозили выслать из страны. Это вынудило Пастернака отказаться от Нобелевской прем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Доктор Живаго» на протяжении многих лет остаётся одним из самых читаемых русских романов во всём ми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Пастернак7" descr=""/>
          <p:cNvPicPr/>
          <p:nvPr/>
        </p:nvPicPr>
        <p:blipFill>
          <a:blip r:embed="rId1"/>
          <a:stretch/>
        </p:blipFill>
        <p:spPr>
          <a:xfrm>
            <a:off x="5076720" y="1052640"/>
            <a:ext cx="31654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9:12:46Z</dcterms:created>
  <dc:creator>Слушатель89</dc:creator>
  <dc:description/>
  <dc:language>en-US</dc:language>
  <cp:lastModifiedBy>Выхристюк</cp:lastModifiedBy>
  <dcterms:modified xsi:type="dcterms:W3CDTF">2004-04-15T12:18:38Z</dcterms:modified>
  <cp:revision>62</cp:revision>
  <dc:subject/>
  <dc:title>Слайд 1</dc:title>
</cp:coreProperties>
</file>